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C8A-BD49-4345-94A4-B98EAFCA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DA3-C521-40C4-94ED-1DB27F33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F71-8715-441E-88EE-20941B1B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5C4-08D0-466A-ACDF-9806D553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DBF-A302-4947-A86D-1EF8D5B3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4EE-5569-448B-AC47-54AB4051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1DF-107C-4AF1-AD44-04947C1D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6B8-A0D7-44A4-82CE-D51B9365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E2A-215C-4841-AA11-25C75886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B8D-C455-4DCF-AF9A-49582DA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6ED-BEFB-4793-A559-8BD82B00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7C3-76BF-4BEA-B114-1781C95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4698-9792-44DE-B51B-5170857B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&amp;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: Understand why people chose to leave their homes and move to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: the movement of people from one country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move to a new place or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ush and Pull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Immigration: peopl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sh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of their homeland against their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Immigration: peopl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l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drawn) to a new home by the promise of something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827360" y="341280"/>
          <a:ext cx="5487840" cy="61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41280"/>
                    <a:ext cx="548784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8382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 Answer questions 2-5 in complete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1____________________ &amp; Letter 2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1____________________&amp; Letter 2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1____________________&amp; Letter 2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can you learn about life in the “Old Country” from letter 1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hat can you learn about life in America from letter 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oes the author of letter 2 seem happy with life in America? Give an example from the letter to help support your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ive one example of pus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 Bold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ll immigration from the le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55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30600" y="380880"/>
            <a:ext cx="61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igration to The United States 1880-1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0:21:00Z</dcterms:created>
  <dc:creator>Nicole Bonning</dc:creator>
  <dc:description/>
  <dc:language>en-US</dc:language>
  <cp:lastModifiedBy>Nicole Bonning</cp:lastModifiedBy>
  <dcterms:modified xsi:type="dcterms:W3CDTF">2012-04-15T21:40:03Z</dcterms:modified>
  <cp:revision>4</cp:revision>
  <dc:subject/>
  <dc:title>History &amp; Geography</dc:title>
</cp:coreProperties>
</file>